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png" ContentType="image/pn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FF97-3F87-4D06-B628-BCA07B2147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4BDF-348A-47F2-B97A-5B4BAE86BA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C8C-3060-4279-8C09-8C9CF12A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7AE-022C-4342-B2FF-8656CDD9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C703-D988-43F7-BD53-3C94C089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1EF0-F50E-4426-8D5B-2D7CC950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365C-EF74-4675-AA06-3127160E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73C3-CDBA-40B6-82C6-DB45BD62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E325-28FF-4D29-A2E9-819F2430F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B1C6-CFDD-4A3A-AEF3-3A0B86E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79F1-D9B9-4538-B954-4D8FC8D9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A24BF-7FFA-4932-968F-2C51B60F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75EC-6AD8-47C0-A55B-5920A6C2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D8F-FDE3-4DCC-AF03-A528D218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EA18-B82C-433E-BDCA-947FF6C5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3465-088D-4309-88E7-58A1B292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69EC-DFA4-427C-B017-A34D6C30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E863B-46AB-478E-AF0F-B1533B3A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1870-AD0C-413C-97AD-866A2ABD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2535E-5584-49D2-AC11-6EB4A3CA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1418-4F0D-4E90-8FF4-4338AFF4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5DC2C-4B7B-496B-A40C-8E54C577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8747A-4322-4493-93DF-03045A92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EFE87-20F6-4087-841C-86209D78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D770-09AF-4091-889A-98AD0E2E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41EE-804D-4230-B34E-858774F6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9703B-C03A-41E6-AEEA-68561B79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9749B-39C1-4FAF-A6F7-AD13A2F4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CCC0B-E12E-43B4-A9D3-A83D7F6D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8B4B-C2F3-41B1-9C4A-1DF3E5CB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E265B-5E89-4541-A38B-D67626819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CECE-4606-4448-A4B1-D0062757B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7758-21C8-4E39-8376-B5B07697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45FA5-C786-4F6F-A302-A82F39E1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8ABF9-FD6B-4485-B802-6DD144FE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9FB-71D5-465F-AA89-2D5173C7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7A2E6-3021-4825-851E-721539DE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2B6D-B575-4C10-9BDA-66481D15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996A-5A4C-4AAA-858C-5EF04B7B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C7AB2-B636-4256-81AE-51E425A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1984-D35D-41DD-BB12-1038B3F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A5810-3C99-4F37-9F88-E56DCCF4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990B8-7BF0-4D61-959C-2033E1B5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F718E-CFB1-46C6-B9C0-E1183399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20E8E-21DC-44FF-923E-38F8395D8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EC1EA-68AC-4464-A3EB-517DC1B09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D56-20EA-4514-BAD8-98209C4A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DEA81-49F8-46E3-A13B-85906E31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6F413-EB1E-4DEB-8102-B2CAA7A4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48ACB-4661-47A0-A2C0-16057676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14657-F1E1-4CF8-B9D3-44E2C1C4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52F3C-60E3-4E5C-9FD3-39B06CA5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4A5DD-4FB9-4FFB-A750-91FE22D6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9A851-3E1F-44F0-AB81-9467DB58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F89DC-99ED-41B9-8DC0-1B0900AF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98EBD-85CB-4AB8-999E-DAF6E3E9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EB22B9-DA38-4468-AC2C-5EEE25FD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8727-9856-4324-BE65-3EDF93BF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D215-EA63-4D0D-8BE6-4159F663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38F5-BE97-4CBB-866E-4DD2D978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E10-5F2F-4364-A0BC-94389682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1567-243C-46B7-9963-1841563E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3A1F-0EAA-494C-8B2E-5426E195A9C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9E52-F198-4F2D-81B4-1CAB75A1D4A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8BF2-853E-4E8F-95C2-69D8D22C116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590C-C7E1-4628-87C0-6CEC70121EA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E4CB-0F1D-4A92-90B1-76FC5FB09E2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1182600" y="-85680"/>
            <a:ext cx="8388360" cy="2865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C:\Users\79995\Desktop\изонить\Последовательность выполнения углов. «Лесная полянка». 1-2\5AkDnktJwN8.jpg"/>
          <p:cNvPicPr/>
          <p:nvPr/>
        </p:nvPicPr>
        <p:blipFill>
          <a:blip r:embed="rId2"/>
          <a:stretch/>
        </p:blipFill>
        <p:spPr>
          <a:xfrm>
            <a:off x="-324000" y="2852640"/>
            <a:ext cx="990936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3"/>
          <p:cNvSpPr/>
          <p:nvPr/>
        </p:nvSpPr>
        <p:spPr>
          <a:xfrm>
            <a:off x="755640" y="404640"/>
            <a:ext cx="796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Пример работы «Лесная полян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C:\Users\79995\Desktop\изонить\Последовательность выполнения углов. «Лесная полянка». 1-2\screen18.jpg"/>
          <p:cNvPicPr/>
          <p:nvPr/>
        </p:nvPicPr>
        <p:blipFill>
          <a:blip r:embed="rId1"/>
          <a:stretch/>
        </p:blipFill>
        <p:spPr>
          <a:xfrm>
            <a:off x="684360" y="917640"/>
            <a:ext cx="7920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1"/>
          <p:cNvSpPr/>
          <p:nvPr/>
        </p:nvSpPr>
        <p:spPr>
          <a:xfrm>
            <a:off x="395280" y="333360"/>
            <a:ext cx="83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Схема для практическ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79995\Desktop\изонить\Последовательность выполнения углов. «Лесная полянка».3-4\Последовательность выполнения углов. «лесная поляна»2.jpg"/>
          <p:cNvPicPr/>
          <p:nvPr/>
        </p:nvPicPr>
        <p:blipFill>
          <a:blip r:embed="rId1"/>
          <a:stretch/>
        </p:blipFill>
        <p:spPr>
          <a:xfrm>
            <a:off x="2340000" y="1114560"/>
            <a:ext cx="4181400" cy="57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74437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МАТЕРИАЛЫ И ИНСТРУМЕН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142920" y="1285920"/>
            <a:ext cx="36432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Цветной кар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итки: </a:t>
            </a:r>
            <a:r>
              <a:rPr b="1" i="1" lang="ru-RU" sz="2400" spc="-1" strike="noStrike">
                <a:solidFill>
                  <a:srgbClr val="262626"/>
                </a:solidFill>
                <a:latin typeface="Constantia"/>
                <a:ea typeface="Times New Roman"/>
              </a:rPr>
              <a:t>ирис, мулине, обычные шве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Ножн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Иг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Лин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nstantia"/>
                <a:ea typeface="Times New Roman"/>
              </a:rPr>
              <a:t>Скот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4932360" y="189000"/>
            <a:ext cx="2928960" cy="2039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778120" cy="1928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"/>
          <p:cNvPicPr/>
          <p:nvPr/>
        </p:nvPicPr>
        <p:blipFill>
          <a:blip r:embed="rId3"/>
          <a:stretch/>
        </p:blipFill>
        <p:spPr>
          <a:xfrm>
            <a:off x="2484360" y="3716280"/>
            <a:ext cx="1604880" cy="2571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894040" cy="1928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5"/>
          <a:stretch/>
        </p:blipFill>
        <p:spPr>
          <a:xfrm>
            <a:off x="4211640" y="3789360"/>
            <a:ext cx="1282680" cy="2857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6"/>
          <a:stretch/>
        </p:blipFill>
        <p:spPr>
          <a:xfrm>
            <a:off x="3564000" y="2421000"/>
            <a:ext cx="21366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676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alibri"/>
              </a:rPr>
              <a:t>Элементы узора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63" name="Group 8"/>
          <p:cNvGrpSpPr/>
          <p:nvPr/>
        </p:nvGrpSpPr>
        <p:grpSpPr>
          <a:xfrm>
            <a:off x="3745080" y="2933640"/>
            <a:ext cx="1653840" cy="990720"/>
            <a:chOff x="3745080" y="2933640"/>
            <a:chExt cx="1653840" cy="990720"/>
          </a:xfrm>
        </p:grpSpPr>
        <p:sp>
          <p:nvSpPr>
            <p:cNvPr id="264" name="Rectangle 5"/>
            <p:cNvSpPr/>
            <p:nvPr/>
          </p:nvSpPr>
          <p:spPr>
            <a:xfrm>
              <a:off x="3745080" y="2933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3745080" y="2933640"/>
              <a:ext cx="165384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  </a:t>
              </a:r>
              <a:r>
                <a:rPr b="0" lang="ru-RU" sz="5900" spc="-1" strike="noStrike">
                  <a:solidFill>
                    <a:srgbClr val="663300"/>
                  </a:solidFill>
                  <a:latin typeface="Arial"/>
                </a:rPr>
                <a:t> </a:t>
              </a:r>
              <a:r>
                <a:rPr b="0" lang="ru-RU" sz="1800" spc="-1" strike="noStrike">
                  <a:solidFill>
                    <a:srgbClr val="663300"/>
                  </a:solidFill>
                  <a:latin typeface="Arial"/>
                </a:rPr>
                <a:t>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51" descr="1"/>
          <p:cNvPicPr/>
          <p:nvPr/>
        </p:nvPicPr>
        <p:blipFill>
          <a:blip r:embed="rId1"/>
          <a:stretch/>
        </p:blipFill>
        <p:spPr>
          <a:xfrm>
            <a:off x="2627280" y="2205000"/>
            <a:ext cx="3849840" cy="3897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2"/>
          <p:cNvSpPr/>
          <p:nvPr/>
        </p:nvSpPr>
        <p:spPr>
          <a:xfrm>
            <a:off x="147636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Д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54"/>
          <p:cNvSpPr/>
          <p:nvPr/>
        </p:nvSpPr>
        <p:spPr>
          <a:xfrm flipH="1">
            <a:off x="5940000" y="2924280"/>
            <a:ext cx="576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5"/>
          <p:cNvSpPr/>
          <p:nvPr/>
        </p:nvSpPr>
        <p:spPr>
          <a:xfrm>
            <a:off x="651672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Кр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6"/>
          <p:cNvSpPr/>
          <p:nvPr/>
        </p:nvSpPr>
        <p:spPr>
          <a:xfrm flipV="1">
            <a:off x="2843280" y="5949720"/>
            <a:ext cx="18000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7"/>
          <p:cNvSpPr/>
          <p:nvPr/>
        </p:nvSpPr>
        <p:spPr>
          <a:xfrm>
            <a:off x="1547640" y="5877000"/>
            <a:ext cx="11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nstanti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8"/>
          <p:cNvSpPr/>
          <p:nvPr/>
        </p:nvSpPr>
        <p:spPr>
          <a:xfrm>
            <a:off x="2627280" y="2205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1" descr="tb_igly"/>
          <p:cNvPicPr/>
          <p:nvPr/>
        </p:nvPicPr>
        <p:blipFill>
          <a:blip r:embed="rId1"/>
          <a:stretch/>
        </p:blipFill>
        <p:spPr>
          <a:xfrm>
            <a:off x="7072200" y="500040"/>
            <a:ext cx="1862280" cy="221940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3"/>
          <p:cNvSpPr/>
          <p:nvPr/>
        </p:nvSpPr>
        <p:spPr>
          <a:xfrm>
            <a:off x="0" y="44640"/>
            <a:ext cx="9001080" cy="62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ПРАВИЛА ТЕХНИКИ БЕЗОПАСНОСТИ  ПРИ РАБОТЕ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Times New Roman"/>
                <a:ea typeface="Times New Roman"/>
              </a:rPr>
              <a:t>ИГОЛКАМИ И БУЛАВ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иголки и булавки в игольниц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берите иголки  и булавки в 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ользуйтесь при работе ржавыми  иглами и булав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Во время работы не вкалывайте иголки и булавки в одеж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Не перекусывайте нитку зубами — можно испортить эмаль и поранить губ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До и после работы проверь количество иг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Игла всегда должна быть с ниткой для того, чтобы ее легче было найти, если она потер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  <a:ea typeface="Times New Roman"/>
              </a:rPr>
              <a:t>Сломанную иглу надо завернуть в плотную бумагу и выброс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500040" y="1425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ПРАВИЛА ТЕХНИКИ БЕЗОПАСНОСТИ ПРИ РАБОТЕ С НОЖНИЦ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tb_nozhnicy"/>
          <p:cNvPicPr/>
          <p:nvPr/>
        </p:nvPicPr>
        <p:blipFill>
          <a:blip r:embed="rId1"/>
          <a:stretch/>
        </p:blipFill>
        <p:spPr>
          <a:xfrm>
            <a:off x="7358040" y="407196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214200" y="928800"/>
            <a:ext cx="87156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Во время работы быть внимательным, не отвлекаться и не отвлекать других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Храните ножницы в определенном   месте, кладите их сомкнутыми  острыми концами от себ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ередавайте ножницы нужно кольцами вперед с сомкнутыми лезвия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резать на ходу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333333"/>
                </a:solidFill>
                <a:latin typeface="Arial"/>
                <a:ea typeface="Times New Roman"/>
              </a:rPr>
              <a:t>При работе с ножницами необходимо следить за движением и положением лезвий во время рабо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214200"/>
            <a:ext cx="742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b4513"/>
                </a:solidFill>
                <a:latin typeface="Arial"/>
                <a:ea typeface="Times New Roman"/>
              </a:rPr>
              <a:t>ОХРАНА ТРУДА. ПРАВИЛЬНАЯ ПОСАДКА ВО ВРЕМ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" descr="posadka"/>
          <p:cNvPicPr/>
          <p:nvPr/>
        </p:nvPicPr>
        <p:blipFill>
          <a:blip r:embed="rId1"/>
          <a:stretch/>
        </p:blipFill>
        <p:spPr>
          <a:xfrm>
            <a:off x="7429680" y="0"/>
            <a:ext cx="1660320" cy="1571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3"/>
          <p:cNvSpPr/>
          <p:nvPr/>
        </p:nvSpPr>
        <p:spPr>
          <a:xfrm>
            <a:off x="0" y="1314360"/>
            <a:ext cx="900108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оги должны твердо опираться всей подошвой об пол, так как при другом положении ног нарушается кровообращ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Свет должен падать слева или спер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Нельзя опираться грудью на ст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уки должны быть согнуты в локтях и отставать от корпуса более чем на 1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асстояние от глаз до изделия или детали должно быть 30-40 с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В процессе работы следует периодически менять положение корпуса (из слегка согнутого к выпрямленному и обрат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Calibri"/>
              </a:rPr>
              <a:t>Приемы рабо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619280" y="162864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2"/>
          <p:cNvPicPr/>
          <p:nvPr/>
        </p:nvPicPr>
        <p:blipFill>
          <a:blip r:embed="rId1"/>
          <a:srcRect l="0" t="0" r="0" b="10262"/>
          <a:stretch/>
        </p:blipFill>
        <p:spPr>
          <a:xfrm>
            <a:off x="609480" y="3000240"/>
            <a:ext cx="8534520" cy="25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5"/>
          <p:cNvSpPr/>
          <p:nvPr/>
        </p:nvSpPr>
        <p:spPr>
          <a:xfrm>
            <a:off x="2771640" y="1844640"/>
            <a:ext cx="0" cy="424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6"/>
          <p:cNvSpPr/>
          <p:nvPr/>
        </p:nvSpPr>
        <p:spPr>
          <a:xfrm>
            <a:off x="2771640" y="6093000"/>
            <a:ext cx="4896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8"/>
          <p:cNvSpPr/>
          <p:nvPr/>
        </p:nvSpPr>
        <p:spPr>
          <a:xfrm>
            <a:off x="327672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9"/>
          <p:cNvSpPr/>
          <p:nvPr/>
        </p:nvSpPr>
        <p:spPr>
          <a:xfrm>
            <a:off x="392436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4572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1"/>
          <p:cNvSpPr/>
          <p:nvPr/>
        </p:nvSpPr>
        <p:spPr>
          <a:xfrm>
            <a:off x="5148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2"/>
          <p:cNvSpPr/>
          <p:nvPr/>
        </p:nvSpPr>
        <p:spPr>
          <a:xfrm>
            <a:off x="5796000" y="595008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3"/>
          <p:cNvSpPr/>
          <p:nvPr/>
        </p:nvSpPr>
        <p:spPr>
          <a:xfrm>
            <a:off x="6372360" y="5950080"/>
            <a:ext cx="21564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"/>
          <p:cNvSpPr/>
          <p:nvPr/>
        </p:nvSpPr>
        <p:spPr>
          <a:xfrm>
            <a:off x="2627280" y="5445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8"/>
          <p:cNvSpPr/>
          <p:nvPr/>
        </p:nvSpPr>
        <p:spPr>
          <a:xfrm>
            <a:off x="2627280" y="4797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2627280" y="422100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2627280" y="3573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2627280" y="2997360"/>
            <a:ext cx="216000" cy="21564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2"/>
          <p:cNvSpPr/>
          <p:nvPr/>
        </p:nvSpPr>
        <p:spPr>
          <a:xfrm>
            <a:off x="2627280" y="2349360"/>
            <a:ext cx="216000" cy="21600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23"/>
          <p:cNvSpPr txBox="1"/>
          <p:nvPr/>
        </p:nvSpPr>
        <p:spPr>
          <a:xfrm>
            <a:off x="3276720" y="630864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99" name="WordArt 24"/>
          <p:cNvSpPr txBox="1"/>
          <p:nvPr/>
        </p:nvSpPr>
        <p:spPr>
          <a:xfrm>
            <a:off x="392436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0" name="WordArt 25"/>
          <p:cNvSpPr txBox="1"/>
          <p:nvPr/>
        </p:nvSpPr>
        <p:spPr>
          <a:xfrm>
            <a:off x="4572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1" name="WordArt 26"/>
          <p:cNvSpPr txBox="1"/>
          <p:nvPr/>
        </p:nvSpPr>
        <p:spPr>
          <a:xfrm>
            <a:off x="5219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2" name="WordArt 27"/>
          <p:cNvSpPr txBox="1"/>
          <p:nvPr/>
        </p:nvSpPr>
        <p:spPr>
          <a:xfrm>
            <a:off x="579600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3" name="WordArt 28"/>
          <p:cNvSpPr txBox="1"/>
          <p:nvPr/>
        </p:nvSpPr>
        <p:spPr>
          <a:xfrm>
            <a:off x="6443640" y="623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4" name="WordArt 29"/>
          <p:cNvSpPr txBox="1"/>
          <p:nvPr/>
        </p:nvSpPr>
        <p:spPr>
          <a:xfrm>
            <a:off x="2340000" y="5445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5" name="WordArt 31"/>
          <p:cNvSpPr txBox="1"/>
          <p:nvPr/>
        </p:nvSpPr>
        <p:spPr>
          <a:xfrm>
            <a:off x="2340000" y="4797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6" name="WordArt 32"/>
          <p:cNvSpPr txBox="1"/>
          <p:nvPr/>
        </p:nvSpPr>
        <p:spPr>
          <a:xfrm>
            <a:off x="2340000" y="422100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7" name="WordArt 33"/>
          <p:cNvSpPr txBox="1"/>
          <p:nvPr/>
        </p:nvSpPr>
        <p:spPr>
          <a:xfrm>
            <a:off x="2340000" y="3573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8" name="WordArt 34"/>
          <p:cNvSpPr txBox="1"/>
          <p:nvPr/>
        </p:nvSpPr>
        <p:spPr>
          <a:xfrm>
            <a:off x="2340000" y="2997360"/>
            <a:ext cx="12852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09" name="WordArt 35"/>
          <p:cNvSpPr txBox="1"/>
          <p:nvPr/>
        </p:nvSpPr>
        <p:spPr>
          <a:xfrm>
            <a:off x="2340000" y="2349360"/>
            <a:ext cx="12852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10" name="Line 37"/>
          <p:cNvSpPr/>
          <p:nvPr/>
        </p:nvSpPr>
        <p:spPr>
          <a:xfrm>
            <a:off x="2771640" y="2421000"/>
            <a:ext cx="648000" cy="367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8"/>
          <p:cNvSpPr/>
          <p:nvPr/>
        </p:nvSpPr>
        <p:spPr>
          <a:xfrm>
            <a:off x="3492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9"/>
          <p:cNvSpPr/>
          <p:nvPr/>
        </p:nvSpPr>
        <p:spPr>
          <a:xfrm flipH="1" flipV="1">
            <a:off x="2771280" y="3068280"/>
            <a:ext cx="1295640" cy="302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0"/>
          <p:cNvSpPr/>
          <p:nvPr/>
        </p:nvSpPr>
        <p:spPr>
          <a:xfrm>
            <a:off x="2700360" y="3141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1"/>
          <p:cNvSpPr/>
          <p:nvPr/>
        </p:nvSpPr>
        <p:spPr>
          <a:xfrm>
            <a:off x="2771640" y="3716280"/>
            <a:ext cx="1944720" cy="237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2"/>
          <p:cNvSpPr/>
          <p:nvPr/>
        </p:nvSpPr>
        <p:spPr>
          <a:xfrm>
            <a:off x="4716360" y="6165720"/>
            <a:ext cx="50328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3"/>
          <p:cNvSpPr/>
          <p:nvPr/>
        </p:nvSpPr>
        <p:spPr>
          <a:xfrm flipH="1" flipV="1">
            <a:off x="2771280" y="4292280"/>
            <a:ext cx="252108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4"/>
          <p:cNvSpPr/>
          <p:nvPr/>
        </p:nvSpPr>
        <p:spPr>
          <a:xfrm>
            <a:off x="2700360" y="4365720"/>
            <a:ext cx="0" cy="43164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45"/>
          <p:cNvSpPr/>
          <p:nvPr/>
        </p:nvSpPr>
        <p:spPr>
          <a:xfrm>
            <a:off x="2771640" y="4941720"/>
            <a:ext cx="3168720" cy="115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6"/>
          <p:cNvSpPr/>
          <p:nvPr/>
        </p:nvSpPr>
        <p:spPr>
          <a:xfrm>
            <a:off x="5940360" y="6165720"/>
            <a:ext cx="57636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7"/>
          <p:cNvSpPr/>
          <p:nvPr/>
        </p:nvSpPr>
        <p:spPr>
          <a:xfrm flipH="1" flipV="1">
            <a:off x="2771280" y="5516280"/>
            <a:ext cx="3745080" cy="57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357800" y="57168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полнение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45"/>
          <p:cNvSpPr/>
          <p:nvPr/>
        </p:nvSpPr>
        <p:spPr>
          <a:xfrm>
            <a:off x="5286240" y="185724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Лицев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3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3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3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Line 6"/>
          <p:cNvSpPr/>
          <p:nvPr/>
        </p:nvSpPr>
        <p:spPr>
          <a:xfrm>
            <a:off x="2843280" y="2133720"/>
            <a:ext cx="0" cy="374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2843280" y="5877000"/>
            <a:ext cx="3889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8"/>
          <p:cNvSpPr/>
          <p:nvPr/>
        </p:nvSpPr>
        <p:spPr>
          <a:xfrm>
            <a:off x="3419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9"/>
          <p:cNvSpPr/>
          <p:nvPr/>
        </p:nvSpPr>
        <p:spPr>
          <a:xfrm>
            <a:off x="3995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457200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1"/>
          <p:cNvSpPr/>
          <p:nvPr/>
        </p:nvSpPr>
        <p:spPr>
          <a:xfrm>
            <a:off x="514836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2"/>
          <p:cNvSpPr/>
          <p:nvPr/>
        </p:nvSpPr>
        <p:spPr>
          <a:xfrm>
            <a:off x="5651640" y="5805360"/>
            <a:ext cx="14436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3"/>
          <p:cNvSpPr/>
          <p:nvPr/>
        </p:nvSpPr>
        <p:spPr>
          <a:xfrm>
            <a:off x="6227640" y="580536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4"/>
          <p:cNvSpPr/>
          <p:nvPr/>
        </p:nvSpPr>
        <p:spPr>
          <a:xfrm>
            <a:off x="2771640" y="522936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6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17"/>
          <p:cNvSpPr/>
          <p:nvPr/>
        </p:nvSpPr>
        <p:spPr>
          <a:xfrm>
            <a:off x="2771640" y="40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8"/>
          <p:cNvSpPr/>
          <p:nvPr/>
        </p:nvSpPr>
        <p:spPr>
          <a:xfrm>
            <a:off x="2771640" y="3500280"/>
            <a:ext cx="144720" cy="14472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9"/>
          <p:cNvSpPr/>
          <p:nvPr/>
        </p:nvSpPr>
        <p:spPr>
          <a:xfrm>
            <a:off x="2771640" y="292428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71640" y="2276640"/>
            <a:ext cx="144720" cy="144360"/>
          </a:xfrm>
          <a:prstGeom prst="ellips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1"/>
          <p:cNvSpPr/>
          <p:nvPr/>
        </p:nvSpPr>
        <p:spPr>
          <a:xfrm>
            <a:off x="3492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4716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5724360" y="5877000"/>
            <a:ext cx="5749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2843280" y="2997360"/>
            <a:ext cx="0" cy="57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2843280" y="4221000"/>
            <a:ext cx="0" cy="576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2"/>
          <p:cNvSpPr/>
          <p:nvPr/>
        </p:nvSpPr>
        <p:spPr>
          <a:xfrm>
            <a:off x="5072040" y="785880"/>
            <a:ext cx="350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Изнаночная стор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1T18:40:46Z</dcterms:created>
  <dc:creator>Екатерина</dc:creator>
  <dc:description/>
  <dc:language>en-US</dc:language>
  <cp:lastModifiedBy>79995678691</cp:lastModifiedBy>
  <dcterms:modified xsi:type="dcterms:W3CDTF">2020-11-21T16:34:14Z</dcterms:modified>
  <cp:revision>33</cp:revision>
  <dc:subject/>
  <dc:title>ТВОРЧЕСКАЯ ДЕЯТЕЛЬНОСТЬ: ЗНАКОМСТВО С ТЕХНИКОЙ ИЗОНИТЬ</dc:title>
</cp:coreProperties>
</file>